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F3CC-D2C9-4E04-9B9E-68F0AA8E5F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9D1C-2509-4F6D-BB62-A6B99F7A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D714D-8931-44F3-8696-9331C50E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7C8AB-6D8B-49E6-A8BF-BA4FDCDE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2E59-A6B7-4099-9D38-F8044E7E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8E97D-D1B4-4BB7-8C14-B0B4807F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98671-BE8E-4B7E-BCF8-C5864C40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E73BF-EBC7-4903-BAF8-D10094A4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31468-41A2-4E98-8782-3A297EFC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819AF-14D1-4F6A-850F-912C64B8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58400-2266-47C2-9C4F-69E90111EB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53020-33D6-49DC-B367-E206795397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F5BD-E3A0-420A-B0C0-219E2AE2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25B3F-F47F-4917-8C49-69CE6EFC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F38B8-58C0-4F09-B96E-7BF4FBBE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C9248-65F4-4284-89D6-09DB26DA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FEBE8-8DD5-4EFA-BC93-5E0A5866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9F2E0-D9DF-4D36-A25D-100377A6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735AC-15B4-4441-982F-FAB78A32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475660-48DF-408A-AF84-B3939F40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F5798-FCAB-4313-9FE5-4B3B44DB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5EBFB-4780-4174-844A-8AFA7932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1F6F1-E79D-435A-9770-E7D4D3A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3566-48C8-494D-A607-DBB25FBEAA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3E888-5355-4341-B873-D236B6374D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61C1C9-4E5F-4D52-8346-2D203E7EC9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38207F-1366-40D4-A437-7F990A3B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DCBBEB-1BE1-4334-9C91-D0F45207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C0F100-DF6F-4E24-97DC-A1E9106C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CD108B-036D-4F34-8220-61913BF7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391BCB-2C75-4AE7-9FB2-133FDA0E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94AABF-BDB2-4C56-968C-1CF4E0A1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65F026-366D-4323-9FA8-0D51B34C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39EAA8-C52C-4D25-8051-8FCEF37E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E57BC-8A78-46C0-819D-7D4C69EC5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9AC583-378A-4E25-928B-4E6D9A26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B8F4A5-E709-4DF1-AC55-ABE80B86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920F11-C313-4986-B002-AF2409BA2F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9607B-529A-425B-805B-18DBCA755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2250B-4019-444A-84C9-60BAB1B3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7C359-37E1-498E-9A7D-362BB119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1DDCC-03AC-43CB-B92B-F3A9F5BF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53239-0595-42E0-B42A-1BC3D61E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002E8-F313-4D25-BA49-6F27F52A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C814A-1212-4964-9077-42FA19A0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AA03B-5F1A-45B0-A275-D0C2A31D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E326F-9706-40B4-BCB7-FDF7A3BD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B9F36-E845-4F4D-BA6B-B2CCBC02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480F-32C7-4CE0-B6D2-60AA46BD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C8C03-EF1E-4C85-9A83-87924430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EDC5-6E28-4042-B710-CBEC2974F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939CC-75C8-4109-A6A4-0DCEF15A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43FE5-EB15-45F0-9EE8-3BD90C88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69DF8-FE06-4521-9A9A-7570A4A8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8CEF9-A256-464F-AE08-1E74A210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064DC-8562-4590-93D4-E6AF2842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CBB14-B4AF-40A7-973F-1B0584A8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17DFA-7A60-4F79-98EC-C4B31C5E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5FCF1-CAE4-4FD4-96B8-715BE94E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2A086-ECED-4E6B-A2FD-37B2C792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520A5-A670-4C08-A670-35870B75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47D34-BEE0-42CD-BDAC-AF48BD49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0A2F6-EA05-4FF9-B425-E3F245AE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2109E-B8F0-4075-B8AD-3C61F587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36990-8DCF-4226-8BFC-B70BF7EF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943EF-5109-45D4-9067-6E610620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C79A2-EF7F-4B9D-9430-4079A656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C7D75-A2F2-4337-BE43-DC5E4AD7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9A0A-3A52-40AC-81BF-5477903F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97A11-23B8-4250-9097-C680E1A5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87001-36AD-4C3A-85EB-850D8C83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EC497-4453-42F1-91BB-561C1261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F5FE3-0A25-4EBA-B302-F43F0B8A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2BB94-6A20-48B1-9AD8-AC46FCA18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2F81-6116-4A03-8D81-0913493764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2B27-3F13-4B5A-B787-2D7BA8D1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F911-B452-4C9F-BC7E-F0D02FCC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364A-7B14-43F1-823A-81599257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A882-BC01-4411-89A8-0528B650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800B-A695-4C4B-8FEB-961097E6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C5DB-BC77-4B50-8B8A-CC8A8912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E860-8493-4A94-9DA3-4C0D8ACE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4455-8626-4A4A-B245-631ACC8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7957-332A-4437-BAA4-B246DA28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A6F-24ED-43D6-BED7-16C04530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50AA-20C5-4AF4-A419-6888A484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0C65-C817-4D03-884D-00C463C4F0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08EFF-18BF-4765-B410-1803FC2BA3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B59B0-74C4-4300-B318-7F98126B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5D745-085A-476D-A69F-86C2061C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6DA8-D205-46C2-96A3-ED49BE7E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47A7E-2035-4228-8D0C-91E8EB44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55C9D-786A-42E6-994E-13CDAF20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7C217-5134-4F79-9B8C-06C4A158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D295A-44FD-4126-AC9A-B5E2A972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C2C29-0FCF-4EBF-A9A4-0C58FC4B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B037D-AEFA-4B88-9209-3CB59E52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8CA88-D27A-4CE3-8159-01376706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6A142-C722-47A8-B18B-46C49C01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20F01-4F9F-48E3-8C64-882DC2BC4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49275-0742-458A-BDAC-BB76E0B2A2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FEFA-7990-4893-8215-63F6BEA8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771EC9-2097-497D-8D77-8D0F1A7E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C89D7-3B51-4766-B54E-5E4B7B13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C34D4F-D122-4D0C-AB73-2B2014E1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05727-AE24-4E01-91C9-D14DCDC5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9DB4E-DE2F-4509-8EFB-D4A43045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D70D28-9330-4CA3-8560-CF9ADC83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FD2A1-2D10-4686-B86F-82D35846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37F595-3B75-412E-954D-396BACAA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31F175-6DB0-4390-AF6A-47ED41C6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D1701-A406-4454-A9A7-21C97EC7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E1AF-8C9B-4E75-BB39-463937AF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34FA49-1CDA-48CB-AE86-309AF48ACF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AE56-BFBF-4290-924E-0128538A5B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53C1E-9B67-4036-A734-410F2BB5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A068E-7C93-47AE-A003-8E0D6600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24F4-ECF3-4B87-A132-30A44FA1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FBFD0-51A7-478D-B2BF-BA975DF7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3A1C-BDD7-4D30-B506-58A29B24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62BA1-F2B2-42B3-8569-0F7E030B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9DC5-0C3C-450F-8631-968055A3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A1D6-D2F9-45FC-8266-A506626E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0A21-3F3C-4B4A-B573-8EACDB03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1AE4-D284-4AAA-934B-6D75E309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3A33-BA67-4CBD-B5F7-FC6FEE9B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CDDC9-A271-4374-A1A5-E70BB545F4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ADE43-BA22-4414-A655-8326EA7E9C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146E5-5E69-4F4D-827B-9D4E0A66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9A6FA-6F36-490A-94EE-7C183AF2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DA325-8931-4115-8378-C457F61C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41FF0-BB38-45C7-AC7E-37E9E241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48629-B9EB-4041-B4A1-E624284A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DCB7C-C3DE-4940-90B4-5E56AC98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DC7A-7046-4AEE-A169-21F8E031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1E316-2E5D-41EC-8C2A-00FF964F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9E37F-E64D-40D4-B630-13EA6AA7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51D31-F436-42E0-95B9-CF83D271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8342B-40A4-4EF2-8428-8BF08A4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B538E-438B-46A9-852A-1CE6B9AC84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C167C9-C3B4-45DB-A7B3-234158A1DD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581BD4-4F67-43B7-8E3D-DDAF3595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B3A4CC-56DA-408E-A7D8-F79D8A26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26AF49-8CC0-454D-86F3-E1EA4B6E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C4882-8ADF-4854-8FEC-E0C1B500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C2F6-A3FC-448C-BA90-CB6C5E24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D3B049-FB15-4A0F-9F02-D6D377DE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16433E-A3B4-450B-BC9F-B7D9E8BB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6EDE0B-9A66-4D06-863B-94BB327B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AD11A-AA9D-4EE4-AC2A-20D3FF06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A42C29-1B9B-453A-AED7-4846E6C1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8C8C0F-2D86-415A-897E-71E995C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16669B-DD04-417F-A4E7-6FF1BB0308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FFDA7-FF2D-48D5-82B9-6F012028FB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5E968-488D-4706-AA70-68EAF958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3B577-2E44-4D69-BC03-A6F9334D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EDC832-85E6-4DD3-8EE8-19D789545510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547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54720" indent="-54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0D8BB6-23D2-4919-95CC-A43F73B21630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460620-BF95-4D2E-BA0B-0CC5BA39B99C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5960" cy="585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6840" y="274680"/>
            <a:ext cx="6018120" cy="58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CD0F6E-3C4E-4D18-8C5C-1AFABA5CF516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50702F-D0E6-4048-BEF5-D99E76EB5948}" type="slidenum"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38000"/>
          </a:bodyPr>
          <a:p>
            <a:pPr marL="130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AD5FA09-0C8E-4567-B900-F3290EFAC834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BE7FB4-1949-4C0E-9415-CCA80BC6613D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3000"/>
          </a:bodyPr>
          <a:p>
            <a:pPr marL="113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040" indent="-11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538969-8F82-4A87-BEC7-C54B91D22E26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55B73A-DFFF-486D-8373-2DBB625EDEB2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2000"/>
          </a:bodyPr>
          <a:p>
            <a:pPr marL="41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1040" indent="-4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CBB6CA-552A-492C-BF19-346EE4C9477C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C56BDCE-9D83-418E-9586-A72633798EF2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8CAE87-B013-4379-8449-D9BE13C37315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34600"/>
            <a:ext cx="3006720" cy="46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60" indent="-20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07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460D06-DCE9-4FD8-9A0A-40F7B5C7AF45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720720" y="900000"/>
            <a:ext cx="7764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Knowledge represent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lecture 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Intro to rules and logic refresh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339920" y="49068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ules are code t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other view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ules are code in a rule-programming-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ke different, specialised Prolog's or Datalog'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ow to use a r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n other words, what should rule derive from d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Common ground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almost all rule syste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classical 1st order logic - various limitations)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various exten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hy classical logic? Because it allows to derive all things which generally make sen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'texas'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=&gt; eatingplace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ives eatingplace('texas') and nothing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pplying 1st 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ere are many different - most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xiomatizations and rule systems for log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owever, the practical - and sufficient - way to think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mply th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ind all possible matches with the premisses of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ach match instantiates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rive an instantiated consequence of the r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peat for all matches and all consequences etc etc ad infini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solu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mple core method for practical reaso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logical deriv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d as a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basi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most reasoner implementations, with numerous additions / modifications / strategies / optimis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Just two ru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eneralised modus ponens  (resolution ru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mited instantiation (factorisation ru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solution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eneralised modus pon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 =&gt;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(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X) &amp; S(X)  =&gt; R(X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----------- vars instantiated X:=b, Y:=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(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solution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b) | G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(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X) &amp; S(X)  =&gt; R(X)  |  M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---------------------- X:=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(b) | M(b) | G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serve th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X) &amp; S(X)  =&gt; R(X)  |  M(X) is equivalent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P(X)  | -S(X) |  R(X) |  M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solution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ull ru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1  | A2 ... |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B1 | B2 ... | 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d unify(A1,B1) = substitution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---------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A2 | ... An | B2 ... | Bm)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utting off unified A1 and -B1 and gluing rest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nify(A,B) calculates the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most general unifier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of A and B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t is the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minimal instantiatio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s making As=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nify(P(X,a,Y), P(Z,U,Z)) = {X:=Z, U:=a, Y:=Z 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actorization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X) | P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ule for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gluing together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wo literals in the same disjun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ing the minimal unifi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1 | A2 ... |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d unify(A1,A2) = subst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-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A2 | ... | An)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s a highly specialised (and incomplete!)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f resolution for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horn clauses: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ules with max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teral in the consequ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max one positive literal in a disjunc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rivation direction always from positive (right) side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e rule, giving instantiated antecedent as a resul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R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X) =&gt; R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rives P(a), and then finds contradiction with -P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not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derive R(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nswer 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log query ? R(X)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mean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ad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R(X) | Answer(X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o facts and then searching for contradi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R(X) | Answer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P(X) | R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P(X) | Answer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-----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swer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ectur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hy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cedural and declarative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st order logic refres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mple derivation systems for 1st order logic: re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a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Query: contradiction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serv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acts &amp; Rules =&gt;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is a tautology iff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acts &amp; Rules &amp; -Que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is a contra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hy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Derive new knowledge from existing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earning: automatic creation of new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nferences: apply rules to get new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s the „derived knowledge“ really new or just 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ntrinsic consequence of data + rules? This is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hilosophical question out of the scope of this cour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ul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rom simple to more and more complex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=&gt; eatingplace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&amp; openattime(X,T) =&gt; mayeatattime(X,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&amp; openattime(X,T) &amp; country(X,'Britain') &a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&gt;(age(P),17) &amp; popularity(X,S) =&gt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commendscore('eating',X,T,P,0.8*poptorec(S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cedural &amp; decla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Declarativ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=&gt; eatingplace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ocedu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=fetchobjdata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f (datahasattr_val(d,“type“,“pub“)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torenewdata(x,“prop“,“eatingplace“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f 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cedural &amp; decla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ocedural: database trigg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CREATE OR REPLACE TRIGGER tasuta_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BEFORE INSERT ON tasu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REFERENCING NEW AS NEW OLD A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dec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cursor oic is select kood from isik where kood=:new.i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i oic%ROWTYP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cursor cat is sel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category_i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if ca.tasuta='Y' the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pen o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fetch oic into o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if oic%NOTFOUND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insert into isik (kood) values (:new.ik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close o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elect ticket_sequence.nextval into t_id from du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insert into ticket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ticke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,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eclarative: rules +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clarative rules 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b(X) =&gt; eatingplace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eed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ocedural reasoning engin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to actually process data + rules and add new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crete syntax for data and rules which the engine underst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ptional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built-in procedural functions and predi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or convenience and efficiency (arithmetics, st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andling et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eclarative vs proc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o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proc handl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c handling easy to code for specific cases: no need for special syntax, engine api, etc, easy to incorporate arbitrary libraries and program snipp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Con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procedural handl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cursive/iterative handling (derivation chains) hard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gram for procedural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c rules handling code hard to modify and main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chieving efficiency &amp; developing optimisations is very hard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eclarative vs proc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o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decl handl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cursive/iterative handling (derivation chai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c rules handling and maintenance: independcy hel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fficiency-targeted optimisations built into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Con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for decl handl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nderstanding and using required syn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nderstanding and using engine api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ard to add your own procedural functions/preds from other languages/toolk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Summary: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ngines vs your own code like SQL engines vs  writing code for processing data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1-03-07T09:17:54Z</dcterms:modified>
  <cp:revision>97</cp:revision>
  <dc:subject/>
  <dc:title>RDF and schemaless databases: some notes</dc:title>
</cp:coreProperties>
</file>